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F73-270E-4D27-B951-93679074A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277-1DC6-46F5-8F76-EC86F7B0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F0B-3D46-40B5-8589-D35381AE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3DBF-5260-4D96-8181-40E9DB269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6AA3-2AB2-424B-984F-0DC04FCEF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E76-0082-4D5D-BAFD-2ECDE09AF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E87B-4DE3-4395-B5B2-FFF28447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C9A-7757-40C4-BF92-81409B8C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9FC-99E5-49D9-A131-972DA5E59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28D-B64E-44B9-912F-D0E7AA0B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58CB-AA39-48DE-AEBA-9F8F3F1B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FA9-AACD-4311-8D99-AE7D0D702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9B1D-7741-450D-AE01-3806AC85E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0E5-A09D-45B2-8806-C6AFF81F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96C7-CE6F-4D3C-BBA4-81F19027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83F-CE16-4221-9DE8-D2F324F1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038-BDB3-46BB-8062-00386125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895-F891-4C4E-8A42-4CC8A6EA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9121-E814-4F4E-A415-BDF137C7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C12-FD11-419C-852D-2FDAE2BE3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D56-DBC8-49DF-A3AF-6D312D64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556-DBDF-42AE-ADFC-305FBEE3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2C9-EF44-47B9-A663-76959E47A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E54-C9A3-4E0A-81DE-F0D680E4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E02-3CD0-4222-8F64-3A2C24C3C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D7F5-63E3-4F3F-873D-3599CD9B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2A77-7FA9-4FC3-AA63-6E498315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74EA-666B-4E36-9FDC-D6AD641C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36F-BD57-469F-A44E-9E9C71D2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8E0-6F1E-4B57-838E-E7589D8B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74C-21A4-4952-BBC6-42DDD2F5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900-1127-4F6F-8985-84FF335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BEE-A160-4B17-ABC9-6E5D2B99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3EE-C8D7-4F05-8C62-847BBD9F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589-9F30-4253-A867-F25C3F6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BAE-5D59-4804-972D-7ED9C3F8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091-0E77-4E5D-AB70-4304C4C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A0E-F072-4188-9611-CAADF487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D80-230C-4E0C-B856-37E338A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FA5-7D14-4E64-AA8F-6F57F82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B7C-57A1-48BF-919E-F22ABE5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2F4-C18F-44C4-B72E-81C7F81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FFD-F38F-4E3A-8597-1BB00E93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thars_expelled.JPG" TargetMode="External"/><Relationship Id="rId2" Type="http://schemas.openxmlformats.org/officeDocument/2006/relationships/hyperlink" Target="http://en.wikipedia.org/wiki/Image:Cathars_expelled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Middle Ag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00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The kings discuss plans to attack Damascus"/>
          <p:cNvPicPr/>
          <p:nvPr/>
        </p:nvPicPr>
        <p:blipFill>
          <a:blip r:embed="rId1"/>
          <a:stretch/>
        </p:blipFill>
        <p:spPr>
          <a:xfrm>
            <a:off x="2421000" y="2133720"/>
            <a:ext cx="4300560" cy="4495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pansion of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41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t class spurred need to create more secular educ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clerks and government officials who could read and write and understand accou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dr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onastic schools restricted admission to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new universities were founded from pre-existing Catholic sch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Salerno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Bologna (10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Paris (c.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locked to study under famed teac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first, anyone could t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universities were corporations of students &amp; teachers modeled on gui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ld’s duties included hiring facu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could dock faculty w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Medieval-university"/>
          <p:cNvPicPr/>
          <p:nvPr/>
        </p:nvPicPr>
        <p:blipFill>
          <a:blip r:embed="rId1"/>
          <a:stretch/>
        </p:blipFill>
        <p:spPr>
          <a:xfrm>
            <a:off x="5715000" y="2487600"/>
            <a:ext cx="3124080" cy="2957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 Types of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hired and paid for the teachers - Bol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were paid by the chu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by the crown and the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x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 became more organ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gulations for 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living accommod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. rules introduced for tea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years of study to be a le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years &amp; 35 years old to teach the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entered the University at fourteen to fifteen years of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images%5Cstudium_basrelief"/>
          <p:cNvPicPr/>
          <p:nvPr/>
        </p:nvPicPr>
        <p:blipFill>
          <a:blip r:embed="rId1"/>
          <a:stretch/>
        </p:blipFill>
        <p:spPr>
          <a:xfrm>
            <a:off x="5867280" y="2155680"/>
            <a:ext cx="3124440" cy="2544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studies took six years for a Bachelor degree and up to twelve additional years for a master's degree and docto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ties at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gna for leg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rno for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 known as the “queen of theolog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 of higher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vium – grammar, rhetoric and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ivium – arithmetic, geometry, astronomy and mu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had to take the same cour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n and gown relations often sto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vil authorities regularly censor students for riotous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ere afforded the legal protection of the cl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743px-Laurentius_de_Voltolina_001"/>
          <p:cNvPicPr/>
          <p:nvPr/>
        </p:nvPicPr>
        <p:blipFill>
          <a:blip r:embed="rId1"/>
          <a:stretch/>
        </p:blipFill>
        <p:spPr>
          <a:xfrm>
            <a:off x="4876920" y="1766880"/>
            <a:ext cx="4114800" cy="3324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410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 philosophical, scientific and theological movement of the Middl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orts of European intellectual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e reason and fa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 to contact with Muslim and reintroduction of Classical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d much on the work of Aristo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Abelard – French priest – 1079 –1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at cathedral school of Notre Dame in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trous love affair with Hel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 et 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es and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ed statements from the Bible and Church leaders which contradict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that reason could resolve the cont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under Bernard of Clairvaux charged Abelard with her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abelardheloise"/>
          <p:cNvPicPr/>
          <p:nvPr/>
        </p:nvPicPr>
        <p:blipFill>
          <a:blip r:embed="rId1"/>
          <a:stretch/>
        </p:blipFill>
        <p:spPr>
          <a:xfrm>
            <a:off x="5826240" y="1752480"/>
            <a:ext cx="2977920" cy="3962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Anselm – Benedictine monk – 1079 – 11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f - no conflict separating man’s spiritual                                    &amp; rational natu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ed reason and faith in credo – “I believe                                      in order to understand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as Aquinas, Dominican, 1225 – 1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every effort to prove that faith and reason                      could be reconciled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orders of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– could demonstrate propositions such as the existence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th – things like the nature of the Trinity must be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e as a great chain of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nipotent God called everything into being, with everything had its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occupied a place midway between the material and the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gave human beings the power to understand some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great works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 contra Gentil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 Theologic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onized after death in 12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St Anselm"/>
          <p:cNvPicPr/>
          <p:nvPr/>
        </p:nvPicPr>
        <p:blipFill>
          <a:blip r:embed="rId1"/>
          <a:stretch/>
        </p:blipFill>
        <p:spPr>
          <a:xfrm>
            <a:off x="7010280" y="304920"/>
            <a:ext cx="1943280" cy="3352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asticism and Sci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uropeans started to systematically observe and investigate the physical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rred by newly translated Greek and Arab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Grossete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nglish bishop and sch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stotel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an early system of experimental methodology with an emphasis on observation, hypothesis and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d to demonstrate that the world was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on the refraction of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er Bac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214 12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ed for practical applications - te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d that observation should guide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acon"/>
          <p:cNvPicPr/>
          <p:nvPr/>
        </p:nvPicPr>
        <p:blipFill>
          <a:blip r:embed="rId1"/>
          <a:stretch/>
        </p:blipFill>
        <p:spPr>
          <a:xfrm>
            <a:off x="6172200" y="3733920"/>
            <a:ext cx="2139840" cy="2603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800px-Caernarfon_castle_interior"/>
          <p:cNvPicPr/>
          <p:nvPr/>
        </p:nvPicPr>
        <p:blipFill>
          <a:blip r:embed="rId1"/>
          <a:stretch/>
        </p:blipFill>
        <p:spPr>
          <a:xfrm>
            <a:off x="4038480" y="1447920"/>
            <a:ext cx="4953240" cy="365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arcassonne"/>
          <p:cNvPicPr/>
          <p:nvPr/>
        </p:nvPicPr>
        <p:blipFill>
          <a:blip r:embed="rId2"/>
          <a:stretch/>
        </p:blipFill>
        <p:spPr>
          <a:xfrm>
            <a:off x="152280" y="38098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astle"/>
          <p:cNvPicPr/>
          <p:nvPr/>
        </p:nvPicPr>
        <p:blipFill>
          <a:blip r:embed="rId3"/>
          <a:stretch/>
        </p:blipFill>
        <p:spPr>
          <a:xfrm>
            <a:off x="152280" y="1066680"/>
            <a:ext cx="3810240" cy="2500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s associated with knigh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ch wor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val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means “knigh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or is the foundational and guiding princi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asic a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lation to countrymen and fellow Christi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y, courage, valor, fairness, protection of the weak and poor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ant-hood to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rior chivalry - chief duty is to his l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lation to G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faithful to the church, being the champion of good against evil, being generous and obeying God above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 to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that the knight is to serve a 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gentleness and graciousness to all wo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ly 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setting%20out%20for%202nd%20crusade"/>
          <p:cNvPicPr/>
          <p:nvPr/>
        </p:nvPicPr>
        <p:blipFill>
          <a:blip r:embed="rId1"/>
          <a:stretch/>
        </p:blipFill>
        <p:spPr>
          <a:xfrm>
            <a:off x="5522760" y="2209680"/>
            <a:ext cx="3381480" cy="3657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 in the Chur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’s spiritual and secular authority influenced every facet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ing of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.- the Church largest landowner in Europe – Up to a third of all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kings and empe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reformers scrutinized Church’s involvement in temporal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for ending simony – accepting bribes in order to receive Chur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celibacy for the cl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of the papacy continued to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o X proclaimed the absolute primacy of St. Peter in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Schism - Leo X broke with the Eastern Orthodox Church in 10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 supreme over the patriar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 in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ture Controversy - between 1073 and 1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archs choose high church officials in their re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 Nicholas II – 1059 – Establishes selection by College of Card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ggle between Henry IV &amp; Gregory 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ory VII, brought an end to lay in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7 Henry comes to Can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x Dei (Peace of G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40 pope tried to curtail continuous state of warfare by declaring a placed women, children travelers and priests under pap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ned fighting between Wednesday night and Monday morning and on holy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only 90 days a year for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not stop war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 of the Virgin M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clipsed the veneration of individual s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ediator role between sinful humanity and Je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athedrals dedicated to “Notre Dame” or “Our Lad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ap_europe_1000ad"/>
          <p:cNvPicPr/>
          <p:nvPr/>
        </p:nvPicPr>
        <p:blipFill>
          <a:blip r:embed="rId1"/>
          <a:stretch/>
        </p:blipFill>
        <p:spPr>
          <a:xfrm>
            <a:off x="2971800" y="152280"/>
            <a:ext cx="5389560" cy="7848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hic Archite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 originated at the abbey church of Saint-Denis in Saint-Denis, near Par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logical mess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glory of God versus the smallness and insignificance of the mortal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ing but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d 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 stained-glas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ive sculpture – saints &amp; gargo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0" descr="amiens"/>
          <p:cNvPicPr/>
          <p:nvPr/>
        </p:nvPicPr>
        <p:blipFill>
          <a:blip r:embed="rId1"/>
          <a:stretch/>
        </p:blipFill>
        <p:spPr>
          <a:xfrm>
            <a:off x="5611680" y="1676520"/>
            <a:ext cx="3167280" cy="4724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h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28" descr="Paris"/>
          <p:cNvPicPr/>
          <p:nvPr/>
        </p:nvPicPr>
        <p:blipFill>
          <a:blip r:embed="rId1"/>
          <a:stretch/>
        </p:blipFill>
        <p:spPr>
          <a:xfrm>
            <a:off x="4114800" y="784080"/>
            <a:ext cx="457200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9" descr="window_in_gothic_cathedral"/>
          <p:cNvPicPr/>
          <p:nvPr/>
        </p:nvPicPr>
        <p:blipFill>
          <a:blip r:embed="rId2"/>
          <a:stretch/>
        </p:blipFill>
        <p:spPr>
          <a:xfrm>
            <a:off x="152280" y="915840"/>
            <a:ext cx="3772080" cy="502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30" descr="paris21"/>
          <p:cNvPicPr/>
          <p:nvPr/>
        </p:nvPicPr>
        <p:blipFill>
          <a:blip r:embed="rId3"/>
          <a:stretch/>
        </p:blipFill>
        <p:spPr>
          <a:xfrm>
            <a:off x="4572000" y="4191120"/>
            <a:ext cx="3733920" cy="2387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onastic Ord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5791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icated to living simple, austere exist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dient to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 life in the monas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directly with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ght against her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icant ord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3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icated to life of pov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ght to assist th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tercians – c. 1100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by St. Bernard of Clai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153 at least 343 chapter ho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isc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by St. Francis of Ass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the Grey Friars founded 12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mel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ermits of the Blessed Virgin Mary of Carm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the White Friars, founded 1206–12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ican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Preachers, founded 1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d preaching rather than pov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d in rhetoric to combat heretics with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ini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mits of St. Augustine, founded 12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ABS-francis-m"/>
          <p:cNvPicPr/>
          <p:nvPr/>
        </p:nvPicPr>
        <p:blipFill>
          <a:blip r:embed="rId1"/>
          <a:stretch/>
        </p:blipFill>
        <p:spPr>
          <a:xfrm>
            <a:off x="6019920" y="1690560"/>
            <a:ext cx="2819160" cy="3476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in Western Euro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very persecuted during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 prohibited Christians from lending money at interest – us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s became the Empire’s financia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II’s call for crusade in 1095 opened a period of pers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pogram against the Jews took place during this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6 – 1215 – numerous persecutions of J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3 – Henry IV denied Jews the right to bear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reemen could bear arms co Jews were considered as “unfr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5 – Fourth Lateran Council prohibited Jews from hold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d certain clothes to wear as well as areas in which Jews were allowed to live – ghet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6 – Jews were expelled from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tical Mov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5791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 movements that questioned church doct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in the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d in the newly urbanized areas such as southern France and northern Ita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 reaction was to eliminate some and integrate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ar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ovement with Gnostic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igensi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ists believed that historical events were the result of struggle between a good &amp; e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bigensian Crusade launched by Pope Innocent III in 12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al massacres – “Kill them all; God will     know his ow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si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es of Ly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ed to corruption of th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in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ecution and torture to identify her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>
            <a:hlinkClick r:id="rId1"/>
          </p:cNvPr>
          <p:cNvSpPr/>
          <p:nvPr/>
        </p:nvSpPr>
        <p:spPr>
          <a:xfrm>
            <a:off x="36003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Cathars being expelled from Carcassone in 1209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02400" y="2362320"/>
            <a:ext cx="3213000" cy="3276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urope on the Ev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1090"/>
          <p:cNvPicPr/>
          <p:nvPr/>
        </p:nvPicPr>
        <p:blipFill>
          <a:blip r:embed="rId1"/>
          <a:stretch/>
        </p:blipFill>
        <p:spPr>
          <a:xfrm>
            <a:off x="2122560" y="1371600"/>
            <a:ext cx="4897440" cy="5305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military campaigns conducted     in the name of Christe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goal to recapture Jerusalem &amp;    the Holy Land from Musl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pilgrimage with hol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ks vs. Sarac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primary crusades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5 to 129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sanctioned by the P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ashed wave of impassioned, personally felt pious Christian f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unsuccessful expe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ultural interpre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oism, faith and hon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mic – invasi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arian          savagery and bru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ving memory in Muslim world 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crusade2"/>
          <p:cNvPicPr/>
          <p:nvPr/>
        </p:nvPicPr>
        <p:blipFill>
          <a:blip r:embed="rId1"/>
          <a:stretch/>
        </p:blipFill>
        <p:spPr>
          <a:xfrm>
            <a:off x="5791320" y="380880"/>
            <a:ext cx="3352680" cy="333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rusades-path"/>
          <p:cNvPicPr/>
          <p:nvPr/>
        </p:nvPicPr>
        <p:blipFill>
          <a:blip r:embed="rId2"/>
          <a:stretch/>
        </p:blipFill>
        <p:spPr>
          <a:xfrm>
            <a:off x="5181480" y="3733920"/>
            <a:ext cx="3791160" cy="231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78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09, the Fatimid caliph al-Hakim bi-Amr Allah sacked the pilgrimage hospice in Jerusalem and destroyed the Church of the Holy Sepulc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began to circulate in the West about cruelty of Muslims toward Christian pilgri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 from the Byzantine Emperors          threatened under by the Seljuk Tu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eror wants to resore land to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et for intense religious piety of the               late 11th century among 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ing for the cause led to salv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ture Controversy awakened public     interest in religious affa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to increase power of papacy by reuniting Christian world and bringing East und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crusades"/>
          <p:cNvPicPr/>
          <p:nvPr/>
        </p:nvPicPr>
        <p:blipFill>
          <a:blip r:embed="rId1"/>
          <a:stretch/>
        </p:blipFill>
        <p:spPr>
          <a:xfrm>
            <a:off x="6283440" y="2133720"/>
            <a:ext cx="2678040" cy="3047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rusades map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raise, transport and supply large armies led to a flourishing of trade throughout Eur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Europe to Islamic culture, learning, ideas an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ed bring on the Renaiss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amic world has cultural memory of cruel and savage onslaughts by European Christ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ed Kings or 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d anti-Semitism toward Jews and persecution of her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n Conquest of En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on of the Kingdom of England by William the Conqu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of Hastings - 10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ux Tapes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laimants to the C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old Godwine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Harald of Nor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(Duke of Norman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shed in English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one of the most powerful monarchies in Eur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England with Continental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stage for English-French confli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d the English language and cul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 total loss for Anglo-Saxon aristocra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uccessful military conquest of Eng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williami"/>
          <p:cNvPicPr/>
          <p:nvPr/>
        </p:nvPicPr>
        <p:blipFill>
          <a:blip r:embed="rId1"/>
          <a:stretch/>
        </p:blipFill>
        <p:spPr>
          <a:xfrm>
            <a:off x="6434280" y="1371600"/>
            <a:ext cx="21603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william"/>
          <p:cNvPicPr/>
          <p:nvPr/>
        </p:nvPicPr>
        <p:blipFill>
          <a:blip r:embed="rId2"/>
          <a:stretch/>
        </p:blipFill>
        <p:spPr>
          <a:xfrm>
            <a:off x="6553080" y="4800600"/>
            <a:ext cx="1981440" cy="1919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gland 1066 - 13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Norman Mon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Council replaces W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s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nry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. 1154 – 1189) – expands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anor of Aquita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ast lands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ar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on-Hearted (r. 1189 – 11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ous war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(r. 1199 – 1216) – incompetent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a Ca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2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s are not above th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uld Not Collect Any New Tax Without                                the Consent of the Great Counc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uld not violate due process of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ccused Person Was Entitled to a Trial by a Jury of Pe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stitution able to restrict power of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ights &amp; burgesses 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es House of Commons &amp; House of L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richard"/>
          <p:cNvPicPr/>
          <p:nvPr/>
        </p:nvPicPr>
        <p:blipFill>
          <a:blip r:embed="rId1"/>
          <a:stretch/>
        </p:blipFill>
        <p:spPr>
          <a:xfrm>
            <a:off x="6400800" y="9144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ulation of Europe Exp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11th cen., people began to move outward into the wilderness, in what is known as the "great clearance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High Middle Ages, forests and marshes were cleared and cultiv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lements moved beyond the traditional boundaries of the Frankish Empire to new frontiers in eastern Europe, beyond the Elbe River, tripling the size of Germany in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for this expansion and colonization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cli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nown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eval warm peri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ing longer &amp; more productive growing s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raids by Vikings &amp; Magy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ing in greater politic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ments in medieval techn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ing more land to be fa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s of the Chu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11th century further increasing soci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e of Feuda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also brought increased social stability and more mo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e of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8" descr="cityviewl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522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e of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5562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1150 and 1200 the number of chartered cities in the Holy Roman Empire tripled from 200 to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ities – vitality and squa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fs flocked to the cities looking for opportun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fs who lived within a city for a year and  a day were no longer bound to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n air makes men fr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d to maintain independence of local lords and cl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charters from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their own municipal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volutions to gain independence of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ville"/>
          <p:cNvPicPr/>
          <p:nvPr/>
        </p:nvPicPr>
        <p:blipFill>
          <a:blip r:embed="rId1"/>
          <a:stretch/>
        </p:blipFill>
        <p:spPr>
          <a:xfrm>
            <a:off x="6021360" y="1295280"/>
            <a:ext cx="2870280" cy="4114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and Commer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05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 drove the urban explo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grew on the trade rou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aly, Flanders, France,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 of long-distance merch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rs began to create their own comm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rs formed partnerships to share the rewards and the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ure capita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t 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mpagne region of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seatic Leag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founded in the 12th century in norther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political &amp; economic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to 80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Po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Venetian traveled to Silk Road to Ch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to new trade with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belg10438"/>
          <p:cNvPicPr/>
          <p:nvPr/>
        </p:nvPicPr>
        <p:blipFill>
          <a:blip r:embed="rId1"/>
          <a:stretch/>
        </p:blipFill>
        <p:spPr>
          <a:xfrm>
            <a:off x="5181480" y="1523880"/>
            <a:ext cx="3581640" cy="243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arco_Polo_traveling"/>
          <p:cNvPicPr/>
          <p:nvPr/>
        </p:nvPicPr>
        <p:blipFill>
          <a:blip r:embed="rId2"/>
          <a:stretch/>
        </p:blipFill>
        <p:spPr>
          <a:xfrm>
            <a:off x="5562720" y="4267080"/>
            <a:ext cx="3047760" cy="2273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eval Gui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562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mechanism for organizing, regulating and restricting t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areer path for skilled 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y period of apprenticeship – 4 to 1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ftsmen would acquire independent professional status by producing a masterpie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to trade associations designed to supervise business activity and protect the interests of its me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working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d that work was done to an acceptabl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 down rates of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: restricted entry into a profession, forbade price cutting or advertising, and discouraged competition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medieval_street"/>
          <p:cNvPicPr/>
          <p:nvPr/>
        </p:nvPicPr>
        <p:blipFill>
          <a:blip r:embed="rId1"/>
          <a:stretch/>
        </p:blipFill>
        <p:spPr>
          <a:xfrm>
            <a:off x="5867280" y="1944720"/>
            <a:ext cx="297180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4:04Z</dcterms:created>
  <dc:creator>Bob Baer</dc:creator>
  <dc:description/>
  <dc:language>en-US</dc:language>
  <cp:lastModifiedBy>Sue Gregory</cp:lastModifiedBy>
  <dcterms:modified xsi:type="dcterms:W3CDTF">2008-09-11T04:45:58Z</dcterms:modified>
  <cp:revision>41</cp:revision>
  <dc:subject/>
  <dc:title>High Middle Ages 1000 - 1300</dc:title>
</cp:coreProperties>
</file>